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177D-12A7-4B3D-91B2-0D72DBD7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64A3-910D-458A-A39E-7BA8A56C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8C13-BC00-4834-AA2C-5D0A59EE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02F-6F7A-4F53-895E-B68CAE33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3B5F-7B13-487F-A29B-74D17BC2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DAA0-39F7-4F21-B90F-2F045396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1FD0-285B-416F-9F77-E5F6C002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2367-01B7-488D-9506-10CC909A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F8CE-89C8-4D5E-AC75-204A31C6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8B59-91CF-4A40-B390-8D2120FC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913C-DD89-43A2-B5FF-536ADF49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34AF-CC47-4BC8-9953-4E06718F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9E01-EBDC-4F24-9E6C-28D1D021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DC76-5B9A-4785-8184-DD55EA0A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1D4B-F971-4E73-BE51-F00C745D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1358-67AF-4F4F-A410-0303B881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2AA2-C735-4AC3-93DF-65CC356B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88AB7-2B1C-434D-ABC5-159F51EA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8B3F4-012D-4374-94B8-BECA0DED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CE18C-0C04-41BA-9D17-C5E12257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02833-64F9-481E-8487-A0FAA4C9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C3F3C-FFFB-4A5C-AA4A-27D691D8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4CB-216F-4002-9C75-D215C9FF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9AA7-63DC-4750-B936-12396C7D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ACB90-5D0C-414B-A875-181B50A7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7AFAA-A9F8-41F6-AB4A-DAEF5AE1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956B-0AF2-4041-8E71-3F4E467D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0EDF-B3E2-4B5D-A24B-7EBBCBA6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F52ED-F9B9-432F-8ABB-C7BC826C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E92D2-A440-4160-9FD0-49FD5680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A6B32-A9B4-4CD9-9DEC-0E29AE54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E1007-2EEC-4832-92E5-D7B71F3A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86ECB-E575-4386-84D1-672B5398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57A-DD8A-4E90-828F-43B2ECED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348BC-32CE-4453-8AF5-E2F85BD7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9115B-FAEA-4BD9-B41A-F68360FF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6640F-0AFB-40D5-BC49-EB6B5F99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8CF6F-6B0F-4321-ABFF-EE5AD3F4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C7EAA-7849-4624-B2F2-0D6E19A0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C9E76-6918-4518-87E3-25F5B483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ACE63-D905-45BC-8E7A-BAEAEE08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D68DB-6555-484D-9267-B8882E6D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57DD0-C14F-497E-BCC3-06DE7C62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20C93-DC4E-4EC4-B29D-71D65C92C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EEB0-B210-4801-A5AE-F3E1EF66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8C4FB-3579-4483-ADE7-1106F012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7309C-8CE0-4E76-BC89-8D6ABF05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7E6A1-D70A-4335-A545-BC10FF3F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0ADF2-0833-4315-A2A6-4545002A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E19AF-78A1-4AC7-A84E-29BE48F1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78A0B-56B7-4234-8062-570F6A5C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994E7-2291-4EFE-9746-8AB09D7F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5A090-B542-441C-940A-4EA8B056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6C4E6-844C-431B-827B-B46AA7C5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30674-58B4-4E59-952B-0457FBD11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D2D3-DD3F-417B-BB50-308124AE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EAF16-C726-4212-ABA2-49F847610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AC011-CD11-4E58-A0B5-678244D8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E2FCD-7764-4F2D-A7E4-B59E81D8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4DBE5-0968-4E60-AE47-74D4BC07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4D927-DD77-4EA5-B667-4B8F3289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0F95D-8064-4A0C-B2DB-808E89D5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F18EB-C4D5-4D2C-8869-D3086707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68799-B81C-47C6-8F10-7233FA80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FF950-D4EA-4C92-8DBF-9E4011B7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73E10-BE06-4881-8F41-F4647D5F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2FE-CA41-44ED-B7C9-3106ADAD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01F1A-87A6-4822-8D90-156B41B6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83D67-F3BC-45FC-BB48-EC75476E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F2DD1-0CD9-4E56-95A8-5873422C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FFE-4096-49D4-9E57-EBA436E8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D926-77AE-4CF6-B583-38CA043F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3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08A6-DDD6-43B9-B903-0240CF2F0E5C}" type="slidenum">
              <a:rPr b="0" lang="en-IE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9400"/>
            </a:gs>
            <a:gs pos="100000">
              <a:srgbClr val="ffe0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3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98AC-8AB0-4577-9096-0A92F3B8FC64}" type="slidenum">
              <a:rPr b="0" lang="en-IE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9400"/>
            </a:gs>
            <a:gs pos="100000">
              <a:srgbClr val="ffe0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3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5259-CFB1-4EE0-B4DD-70B3630CD280}" type="slidenum">
              <a:rPr b="0" lang="en-IE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53A2-B77D-4E51-986F-8DF9024DEFAB}" type="slidenum">
              <a:rPr b="0" lang="en-IE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3a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2B29-7C18-4AFE-AF24-73D2E50D01F3}" type="slidenum">
              <a:rPr b="0" lang="en-IE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b3b3b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3b3b3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398D-666D-4FF3-B57F-2AC1794F6E0D}" type="slidenum">
              <a:rPr b="0" lang="en-IE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-500040" y="2736720"/>
            <a:ext cx="8845560" cy="26035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99720" y="4786200"/>
            <a:ext cx="6480360" cy="7257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700" spc="-1" strike="noStrike">
                <a:solidFill>
                  <a:srgbClr val="3b3b3b"/>
                </a:solidFill>
                <a:latin typeface="Arial"/>
              </a:rPr>
              <a:t>By Rónán Breathnach</a:t>
            </a:r>
            <a:endParaRPr b="0" lang="en-US" sz="1700" spc="-1" strike="noStrike">
              <a:solidFill>
                <a:srgbClr val="3b3b3b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b3b3b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3b3b3b"/>
                </a:solidFill>
                <a:latin typeface="Arial"/>
              </a:rPr>
              <a:t>Sight words: how does this boy girl </a:t>
            </a:r>
            <a:endParaRPr b="0" lang="en-US" sz="1000" spc="-1" strike="noStrike">
              <a:solidFill>
                <a:srgbClr val="3b3b3b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000" spc="-1" strike="noStrike">
                <a:solidFill>
                  <a:srgbClr val="3b3b3b"/>
                </a:solidFill>
                <a:latin typeface="Arial"/>
              </a:rPr>
              <a:t>why do you think she he that like</a:t>
            </a:r>
            <a:endParaRPr b="0" lang="en-US" sz="10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83" name="Content Placeholder 4" descr="crying boy.jpg"/>
          <p:cNvPicPr/>
          <p:nvPr/>
        </p:nvPicPr>
        <p:blipFill>
          <a:blip r:embed="rId1"/>
          <a:stretch/>
        </p:blipFill>
        <p:spPr>
          <a:xfrm>
            <a:off x="428760" y="1571760"/>
            <a:ext cx="3429000" cy="46432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266720" y="1600200"/>
            <a:ext cx="451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boy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happy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86" name="Content Placeholder 4" descr="happyboy.jpg"/>
          <p:cNvPicPr/>
          <p:nvPr/>
        </p:nvPicPr>
        <p:blipFill>
          <a:blip r:embed="rId1"/>
          <a:stretch/>
        </p:blipFill>
        <p:spPr>
          <a:xfrm>
            <a:off x="160200" y="1500120"/>
            <a:ext cx="4176720" cy="492912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643280" y="1643040"/>
            <a:ext cx="42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b3b3b"/>
                </a:solidFill>
                <a:latin typeface="Comic Sans MS"/>
              </a:rPr>
              <a:t>How does this boy feel?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b3b3b"/>
                </a:solidFill>
                <a:latin typeface="Comic Sans MS"/>
              </a:rPr>
              <a:t>Why do you think he feels like that?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3b3b3b"/>
                </a:solidFill>
                <a:latin typeface="Comic Sans MS"/>
              </a:rPr>
              <a:t>What other good feelings do you get?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89" name="Content Placeholder 4" descr="happy girl swing.bmp"/>
          <p:cNvPicPr/>
          <p:nvPr/>
        </p:nvPicPr>
        <p:blipFill>
          <a:blip r:embed="rId1"/>
          <a:stretch/>
        </p:blipFill>
        <p:spPr>
          <a:xfrm>
            <a:off x="806400" y="1600200"/>
            <a:ext cx="2959200" cy="452592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267080" y="1600200"/>
            <a:ext cx="44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girl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s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happy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92" name="Content Placeholder 4" descr="frightened boy.jpg"/>
          <p:cNvPicPr/>
          <p:nvPr/>
        </p:nvPicPr>
        <p:blipFill>
          <a:blip r:embed="rId1"/>
          <a:stretch/>
        </p:blipFill>
        <p:spPr>
          <a:xfrm>
            <a:off x="471600" y="1600200"/>
            <a:ext cx="3628800" cy="45259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4266720" y="1600200"/>
            <a:ext cx="459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boy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scared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95" name="Content Placeholder 4" descr="sad girl in corner.jpg"/>
          <p:cNvPicPr/>
          <p:nvPr/>
        </p:nvPicPr>
        <p:blipFill>
          <a:blip r:embed="rId1"/>
          <a:stretch/>
        </p:blipFill>
        <p:spPr>
          <a:xfrm>
            <a:off x="777960" y="1600200"/>
            <a:ext cx="3016080" cy="45259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266720" y="1600200"/>
            <a:ext cx="451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girl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s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sad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98" name="Content Placeholder 4" descr="scared boy.jpg"/>
          <p:cNvPicPr/>
          <p:nvPr/>
        </p:nvPicPr>
        <p:blipFill>
          <a:blip r:embed="rId1"/>
          <a:stretch/>
        </p:blipFill>
        <p:spPr>
          <a:xfrm>
            <a:off x="938160" y="1843200"/>
            <a:ext cx="2695680" cy="40384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4267080" y="1600200"/>
            <a:ext cx="437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boy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scared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6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6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301" name="Picture 2" descr="angry smiley.jpg"/>
          <p:cNvPicPr/>
          <p:nvPr/>
        </p:nvPicPr>
        <p:blipFill>
          <a:blip r:embed="rId1"/>
          <a:stretch/>
        </p:blipFill>
        <p:spPr>
          <a:xfrm>
            <a:off x="291960" y="2378160"/>
            <a:ext cx="1987560" cy="2468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frightened smiley.jpg"/>
          <p:cNvPicPr/>
          <p:nvPr/>
        </p:nvPicPr>
        <p:blipFill>
          <a:blip r:embed="rId2"/>
          <a:stretch/>
        </p:blipFill>
        <p:spPr>
          <a:xfrm>
            <a:off x="2882880" y="4737240"/>
            <a:ext cx="2097000" cy="2528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happy smiley.jpg"/>
          <p:cNvPicPr/>
          <p:nvPr/>
        </p:nvPicPr>
        <p:blipFill>
          <a:blip r:embed="rId3"/>
          <a:stretch/>
        </p:blipFill>
        <p:spPr>
          <a:xfrm>
            <a:off x="4979880" y="1305000"/>
            <a:ext cx="2371680" cy="3029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sad smiley.jpg"/>
          <p:cNvPicPr/>
          <p:nvPr/>
        </p:nvPicPr>
        <p:blipFill>
          <a:blip r:embed="rId4"/>
          <a:stretch/>
        </p:blipFill>
        <p:spPr>
          <a:xfrm>
            <a:off x="7023240" y="4591080"/>
            <a:ext cx="2097000" cy="2638440"/>
          </a:xfrm>
          <a:prstGeom prst="rect">
            <a:avLst/>
          </a:prstGeom>
          <a:ln w="0">
            <a:noFill/>
          </a:ln>
        </p:spPr>
      </p:pic>
      <p:sp>
        <p:nvSpPr>
          <p:cNvPr id="305" name="TextBox 8"/>
          <p:cNvSpPr/>
          <p:nvPr/>
        </p:nvSpPr>
        <p:spPr>
          <a:xfrm>
            <a:off x="428760" y="1571760"/>
            <a:ext cx="192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Comic Sans MS"/>
                <a:ea typeface="Aharoni"/>
              </a:rPr>
              <a:t>angry</a:t>
            </a:r>
            <a:endParaRPr b="0" lang="en-US" sz="44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6" name="TextBox 9"/>
          <p:cNvSpPr/>
          <p:nvPr/>
        </p:nvSpPr>
        <p:spPr>
          <a:xfrm>
            <a:off x="3071880" y="41432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omic Sans MS"/>
              </a:rPr>
              <a:t>scared</a:t>
            </a:r>
            <a:endParaRPr b="0" lang="en-US" sz="4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7" name="TextBox 10"/>
          <p:cNvSpPr/>
          <p:nvPr/>
        </p:nvSpPr>
        <p:spPr>
          <a:xfrm>
            <a:off x="5500800" y="57168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4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8" name="TextBox 11"/>
          <p:cNvSpPr/>
          <p:nvPr/>
        </p:nvSpPr>
        <p:spPr>
          <a:xfrm>
            <a:off x="7572240" y="392904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omic Sans MS"/>
              </a:rPr>
              <a:t>sad</a:t>
            </a:r>
            <a:endParaRPr b="0" lang="en-US" sz="40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Franklin Gothic Book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3b3b3b"/>
                </a:solidFill>
                <a:latin typeface="Arial"/>
              </a:rPr>
              <a:t>Happy </a:t>
            </a: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3b3b3b"/>
                </a:solidFill>
                <a:latin typeface="Arial"/>
              </a:rPr>
              <a:t>Sad</a:t>
            </a: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3b3b3b"/>
                </a:solidFill>
                <a:latin typeface="Arial"/>
              </a:rPr>
              <a:t>Angry</a:t>
            </a: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3b3b3b"/>
                </a:solidFill>
                <a:latin typeface="Arial"/>
              </a:rPr>
              <a:t>Scared</a:t>
            </a: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26708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6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6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57" name="Picture 2" descr="angry smiley.jpg"/>
          <p:cNvPicPr/>
          <p:nvPr/>
        </p:nvPicPr>
        <p:blipFill>
          <a:blip r:embed="rId1"/>
          <a:stretch/>
        </p:blipFill>
        <p:spPr>
          <a:xfrm>
            <a:off x="291960" y="2378160"/>
            <a:ext cx="1987560" cy="2468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frightened smiley.jpg"/>
          <p:cNvPicPr/>
          <p:nvPr/>
        </p:nvPicPr>
        <p:blipFill>
          <a:blip r:embed="rId2"/>
          <a:stretch/>
        </p:blipFill>
        <p:spPr>
          <a:xfrm>
            <a:off x="2523960" y="3876840"/>
            <a:ext cx="2097360" cy="2530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happy smiley.jpg"/>
          <p:cNvPicPr/>
          <p:nvPr/>
        </p:nvPicPr>
        <p:blipFill>
          <a:blip r:embed="rId3"/>
          <a:stretch/>
        </p:blipFill>
        <p:spPr>
          <a:xfrm>
            <a:off x="4627440" y="1878120"/>
            <a:ext cx="2363760" cy="3028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sad smiley.jpg"/>
          <p:cNvPicPr/>
          <p:nvPr/>
        </p:nvPicPr>
        <p:blipFill>
          <a:blip r:embed="rId4"/>
          <a:stretch/>
        </p:blipFill>
        <p:spPr>
          <a:xfrm>
            <a:off x="6595920" y="3949560"/>
            <a:ext cx="2097360" cy="2633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62" name="Content Placeholder 4" descr="HappyGirl.jpg"/>
          <p:cNvPicPr/>
          <p:nvPr/>
        </p:nvPicPr>
        <p:blipFill>
          <a:blip r:embed="rId1"/>
          <a:stretch/>
        </p:blipFill>
        <p:spPr>
          <a:xfrm>
            <a:off x="285840" y="1500120"/>
            <a:ext cx="3857400" cy="45720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266720" y="1600200"/>
            <a:ext cx="451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girl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s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happy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65" name="Content Placeholder 4" descr="sad boy.jpg"/>
          <p:cNvPicPr/>
          <p:nvPr/>
        </p:nvPicPr>
        <p:blipFill>
          <a:blip r:embed="rId1"/>
          <a:stretch/>
        </p:blipFill>
        <p:spPr>
          <a:xfrm>
            <a:off x="590400" y="1643040"/>
            <a:ext cx="3391200" cy="4286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266720" y="1600200"/>
            <a:ext cx="459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boy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sad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68" name="Content Placeholder 4" descr="angry girl.jpg"/>
          <p:cNvPicPr/>
          <p:nvPr/>
        </p:nvPicPr>
        <p:blipFill>
          <a:blip r:embed="rId1"/>
          <a:stretch/>
        </p:blipFill>
        <p:spPr>
          <a:xfrm>
            <a:off x="571680" y="1281240"/>
            <a:ext cx="3286080" cy="49482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267080" y="1600200"/>
            <a:ext cx="46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girl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s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cross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71" name="Content Placeholder 4" descr="scared girl.jpg"/>
          <p:cNvPicPr/>
          <p:nvPr/>
        </p:nvPicPr>
        <p:blipFill>
          <a:blip r:embed="rId1"/>
          <a:stretch/>
        </p:blipFill>
        <p:spPr>
          <a:xfrm>
            <a:off x="457200" y="1643040"/>
            <a:ext cx="3657600" cy="4000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4267080" y="1600200"/>
            <a:ext cx="44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girl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s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frightened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74" name="Content Placeholder 4" descr="happy boy sums.jpg"/>
          <p:cNvPicPr/>
          <p:nvPr/>
        </p:nvPicPr>
        <p:blipFill>
          <a:blip r:embed="rId1"/>
          <a:stretch/>
        </p:blipFill>
        <p:spPr>
          <a:xfrm>
            <a:off x="428760" y="1571760"/>
            <a:ext cx="3571920" cy="464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267080" y="1600200"/>
            <a:ext cx="46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boy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makes you feel happy in schoo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77" name="Content Placeholder 4" descr="scared girl wet.jpg"/>
          <p:cNvPicPr/>
          <p:nvPr/>
        </p:nvPicPr>
        <p:blipFill>
          <a:blip r:embed="rId1"/>
          <a:stretch/>
        </p:blipFill>
        <p:spPr>
          <a:xfrm>
            <a:off x="665280" y="1600200"/>
            <a:ext cx="3241440" cy="4525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266720" y="1600200"/>
            <a:ext cx="459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girl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s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Can you think of another word that means the same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3b3b3b"/>
                </a:solidFill>
                <a:latin typeface="Comic Sans MS"/>
              </a:rPr>
              <a:t>Feelings</a:t>
            </a:r>
            <a:endParaRPr b="0" lang="en-US" sz="4600" spc="-1" strike="noStrike">
              <a:solidFill>
                <a:srgbClr val="3b3b3b"/>
              </a:solidFill>
              <a:latin typeface="Franklin Gothic Book"/>
            </a:endParaRPr>
          </a:p>
        </p:txBody>
      </p:sp>
      <p:pic>
        <p:nvPicPr>
          <p:cNvPr id="280" name="Content Placeholder 4" descr="angry gilr.jpg"/>
          <p:cNvPicPr/>
          <p:nvPr/>
        </p:nvPicPr>
        <p:blipFill>
          <a:blip r:embed="rId1"/>
          <a:stretch/>
        </p:blipFill>
        <p:spPr>
          <a:xfrm>
            <a:off x="285840" y="1571760"/>
            <a:ext cx="4000320" cy="4500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266720" y="1600200"/>
            <a:ext cx="451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How does this girl feel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y do you think she feels like that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b3b3b"/>
                </a:solidFill>
                <a:latin typeface="Comic Sans MS"/>
              </a:rPr>
              <a:t>What other words mean the same as cross?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9:38:46Z</dcterms:created>
  <dc:creator>Ronan Breathnach</dc:creator>
  <dc:description/>
  <dc:language>en-US</dc:language>
  <cp:lastModifiedBy>Annie!</cp:lastModifiedBy>
  <dcterms:modified xsi:type="dcterms:W3CDTF">2012-12-28T20:31:37Z</dcterms:modified>
  <cp:revision>46</cp:revision>
  <dc:subject/>
  <dc:title>Emotions and Feelings</dc:title>
</cp:coreProperties>
</file>